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33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1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4.jpeg" ContentType="image/jpeg"/>
  <Override PartName="/ppt/media/image28.jpeg" ContentType="image/jpeg"/>
  <Override PartName="/ppt/media/image40.png" ContentType="image/png"/>
  <Override PartName="/ppt/media/image41.png" ContentType="image/pn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14.jpeg" ContentType="image/jpeg"/>
  <Override PartName="/ppt/media/image9.png" ContentType="image/png"/>
  <Override PartName="/ppt/media/image22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2B3-EDCF-4C0F-A60A-2C6C26B5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550A-54CC-4E0A-9762-E830503E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726-F318-4251-8478-66F31974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0E83-07C8-4DF3-B668-BB3EE395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511F-1431-46CB-BB71-C7B34D6B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7D24-F816-480B-A991-E08125B4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735-53DD-4701-AD2C-623A1A02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C093-D4C6-4BC4-AD79-DB1EA4B8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B5E-98F3-4D60-831D-666704CE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7FE-1C80-483A-A6DC-40A5D37A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6415-9467-4376-A7F5-63ADC89E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DD1-9E2C-4F7D-8BB5-4AB88E08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B384-1EAA-4E9B-A3E0-99A6D94DB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.jpeg"/><Relationship Id="rId17" Type="http://schemas.openxmlformats.org/officeDocument/2006/relationships/image" Target="../media/image28.jpeg"/><Relationship Id="rId18" Type="http://schemas.openxmlformats.org/officeDocument/2006/relationships/image" Target="../media/image29.jpeg"/><Relationship Id="rId19" Type="http://schemas.openxmlformats.org/officeDocument/2006/relationships/image" Target="../media/image30.jpe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0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8.jpe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9.jpe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1.pn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2.jpeg"/><Relationship Id="rId17" Type="http://schemas.openxmlformats.org/officeDocument/2006/relationships/image" Target="../media/image33.jpeg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4.jpeg"/><Relationship Id="rId17" Type="http://schemas.openxmlformats.org/officeDocument/2006/relationships/image" Target="../media/image33.jpeg"/><Relationship Id="rId18" Type="http://schemas.openxmlformats.org/officeDocument/2006/relationships/image" Target="../media/image19.jpeg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5.jpeg"/><Relationship Id="rId17" Type="http://schemas.openxmlformats.org/officeDocument/2006/relationships/image" Target="../media/image36.jpeg"/><Relationship Id="rId18" Type="http://schemas.openxmlformats.org/officeDocument/2006/relationships/image" Target="../media/image37.jpeg"/><Relationship Id="rId19" Type="http://schemas.openxmlformats.org/officeDocument/2006/relationships/image" Target="../media/image38.jpeg"/><Relationship Id="rId20" Type="http://schemas.openxmlformats.org/officeDocument/2006/relationships/image" Target="../media/image3.jpeg"/><Relationship Id="rId21" Type="http://schemas.openxmlformats.org/officeDocument/2006/relationships/image" Target="../media/image14.jpeg"/><Relationship Id="rId22" Type="http://schemas.openxmlformats.org/officeDocument/2006/relationships/image" Target="../media/image39.jpeg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40.png"/><Relationship Id="rId17" Type="http://schemas.openxmlformats.org/officeDocument/2006/relationships/image" Target="../media/image41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1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10.png"/><Relationship Id="rId17" Type="http://schemas.openxmlformats.org/officeDocument/2006/relationships/image" Target="../media/image42.png"/><Relationship Id="rId1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1.png"/><Relationship Id="rId17" Type="http://schemas.openxmlformats.org/officeDocument/2006/relationships/image" Target="../media/image22.jpeg"/><Relationship Id="rId18" Type="http://schemas.openxmlformats.org/officeDocument/2006/relationships/image" Target="../media/image23.jpeg"/><Relationship Id="rId19" Type="http://schemas.openxmlformats.org/officeDocument/2006/relationships/hyperlink" Target="http://www.pariserve.tm.fr/_vti_bin/shtml.exe/hotel-france/region.htm/map" TargetMode="External"/><Relationship Id="rId20" Type="http://schemas.openxmlformats.org/officeDocument/2006/relationships/image" Target="../media/image24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-12600"/>
            <a:ext cx="1625760" cy="1127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71440" y="-12600"/>
            <a:ext cx="987480" cy="1127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784680" y="-12600"/>
            <a:ext cx="1647720" cy="1127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4635360"/>
            <a:ext cx="1171440" cy="803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58920" y="1454040"/>
            <a:ext cx="36799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stellar"/>
              </a:rPr>
              <a:t>La Bretagne, c‘es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79560" y="2027160"/>
            <a:ext cx="5492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Dutch801 Rm BT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falaises et la 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korri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mégali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‘her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 cidre et le kouign a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 biniou b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p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et encore beaucoup plu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pperplate Gothic Bold"/>
              </a:rPr>
              <a:t>- PLONGEZ DANS LES PAGES SUIVANTE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432400" y="2733840"/>
            <a:ext cx="1660680" cy="1179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3324240"/>
            <a:ext cx="1171440" cy="1311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8032680" y="2932200"/>
            <a:ext cx="1111320" cy="75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5432400" y="533520"/>
            <a:ext cx="1701720" cy="58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181080" y="4680"/>
            <a:ext cx="990360" cy="101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8129520" y="19080"/>
            <a:ext cx="881280" cy="1001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0" y="111456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0" y="221940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8032680" y="3686040"/>
            <a:ext cx="1111320" cy="138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8032680" y="1123920"/>
            <a:ext cx="1128960" cy="1133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8045280" y="2257560"/>
            <a:ext cx="1116360" cy="67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8045280" y="5072040"/>
            <a:ext cx="1098720" cy="1087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7"/>
          <a:stretch/>
        </p:blipFill>
        <p:spPr>
          <a:xfrm>
            <a:off x="0" y="5438880"/>
            <a:ext cx="1171440" cy="1419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8"/>
          <a:stretch/>
        </p:blipFill>
        <p:spPr>
          <a:xfrm>
            <a:off x="7134120" y="-12600"/>
            <a:ext cx="89856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9"/>
          <a:stretch/>
        </p:blipFill>
        <p:spPr>
          <a:xfrm>
            <a:off x="8045280" y="6159600"/>
            <a:ext cx="1098720" cy="706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0"/>
          <a:stretch/>
        </p:blipFill>
        <p:spPr>
          <a:xfrm>
            <a:off x="5432400" y="-12600"/>
            <a:ext cx="1701720" cy="56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60560" y="1905120"/>
            <a:ext cx="5956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67880" y="785880"/>
            <a:ext cx="4496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s mégalith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grec: „mega“ = grand ; „lithos“  = la pier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6"/>
          <a:stretch/>
        </p:blipFill>
        <p:spPr>
          <a:xfrm>
            <a:off x="4302000" y="2374920"/>
            <a:ext cx="1328760" cy="1770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7"/>
          <a:stretch/>
        </p:blipFill>
        <p:spPr>
          <a:xfrm>
            <a:off x="1441440" y="2597040"/>
            <a:ext cx="2276640" cy="1548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8"/>
          <a:stretch/>
        </p:blipFill>
        <p:spPr>
          <a:xfrm>
            <a:off x="3943440" y="4734000"/>
            <a:ext cx="2044440" cy="1533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9"/>
          <a:stretch/>
        </p:blipFill>
        <p:spPr>
          <a:xfrm>
            <a:off x="6459480" y="2611440"/>
            <a:ext cx="1879560" cy="1533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427040" y="4222800"/>
            <a:ext cx="22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lig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02000" y="422280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menh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59480" y="4222800"/>
            <a:ext cx="18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dol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43440" y="6267600"/>
            <a:ext cx="21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llée cou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6"/>
          <a:stretch/>
        </p:blipFill>
        <p:spPr>
          <a:xfrm>
            <a:off x="3095640" y="1346040"/>
            <a:ext cx="2647800" cy="35258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670040" y="5133960"/>
            <a:ext cx="5516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 menhi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pierre;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i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lo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34000" y="2036880"/>
            <a:ext cx="180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lus de 5000 de ses grandes pierres dans la région de Bretag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41440" y="4967280"/>
            <a:ext cx="5516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 dolm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o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table;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pier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34000" y="2036880"/>
            <a:ext cx="180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On les considère comme des chambres funérai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6"/>
          <a:stretch/>
        </p:blipFill>
        <p:spPr>
          <a:xfrm>
            <a:off x="2448000" y="1641600"/>
            <a:ext cx="3422520" cy="27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1440" y="4967280"/>
            <a:ext cx="5516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‘alignem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hirs placés en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534000" y="2036880"/>
            <a:ext cx="180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On les considère comme des restes de monuments religie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6"/>
          <a:stretch/>
        </p:blipFill>
        <p:spPr>
          <a:xfrm>
            <a:off x="2448000" y="2000160"/>
            <a:ext cx="3539880" cy="24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1440" y="4967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‘allée couver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ée d‘une double rangée de pier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473880" y="2374920"/>
            <a:ext cx="180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On les trouve souvent au Nord de la Bretag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6"/>
          <a:stretch/>
        </p:blipFill>
        <p:spPr>
          <a:xfrm>
            <a:off x="2565360" y="1913040"/>
            <a:ext cx="3422520" cy="25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60560" y="1905120"/>
            <a:ext cx="5956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1120" y="1069920"/>
            <a:ext cx="647532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 langue bretonne (ar brezhone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6"/>
          <a:stretch/>
        </p:blipFill>
        <p:spPr>
          <a:xfrm>
            <a:off x="5205240" y="3197160"/>
            <a:ext cx="3133800" cy="2189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441440" y="2019240"/>
            <a:ext cx="647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Breton est une langue cel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jourd‘hui 270000 personnes parlent le breton au quotid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8080" y="4016520"/>
            <a:ext cx="4670280" cy="29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carte montre la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ute-Bretagn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 pays gallo) et la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asse-Bretagn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pays breto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n parle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s dans la première,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s et breton dans la seco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303200" y="3646440"/>
            <a:ext cx="37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 deux Breta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60320" y="785520"/>
            <a:ext cx="460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mboles d‘ident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638360" y="3379680"/>
            <a:ext cx="6543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drapeau a été dessiné en 19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bandes représentent les 9 anciens évêchés: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es 4 bandes blanches pour la Basse-Bretagn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es 5 bandes noires pour la Haute-Bret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champ d‘hermines rappelle l‘ancien duché de Bretag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6"/>
          <a:stretch/>
        </p:blipFill>
        <p:spPr>
          <a:xfrm>
            <a:off x="1744560" y="2085840"/>
            <a:ext cx="1406520" cy="9050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887640" y="2324160"/>
            <a:ext cx="3637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drapeau breton -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wen ha du (blanc et no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7"/>
          <a:stretch/>
        </p:blipFill>
        <p:spPr>
          <a:xfrm>
            <a:off x="7923240" y="5597640"/>
            <a:ext cx="258840" cy="5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7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2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41440" y="785520"/>
            <a:ext cx="48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mboles d‘ident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833560" y="1928880"/>
            <a:ext cx="5505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trisk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trois éléments du triskell so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'eau, la terre et le f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6"/>
          <a:stretch/>
        </p:blipFill>
        <p:spPr>
          <a:xfrm>
            <a:off x="1674720" y="2212920"/>
            <a:ext cx="890640" cy="8906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909880" y="4097160"/>
            <a:ext cx="542916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‘hermin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sur le Gwen ha 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'hermine est un des symboles forts de la Bretagne.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 devis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lu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ô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 la mort que la souill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présente bien la mentalité des vrais Bret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7"/>
          <a:stretch/>
        </p:blipFill>
        <p:spPr>
          <a:xfrm>
            <a:off x="1820880" y="4097160"/>
            <a:ext cx="509400" cy="10368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820880" y="513396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8"/>
          <a:stretch/>
        </p:blipFill>
        <p:spPr>
          <a:xfrm>
            <a:off x="1674720" y="5734080"/>
            <a:ext cx="890640" cy="5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47640" y="1069920"/>
            <a:ext cx="4849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duits et Spécia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376280" y="4281480"/>
            <a:ext cx="5956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6"/>
          <a:stretch/>
        </p:blipFill>
        <p:spPr>
          <a:xfrm>
            <a:off x="4121280" y="4735440"/>
            <a:ext cx="1503360" cy="1125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17"/>
          <a:stretch/>
        </p:blipFill>
        <p:spPr>
          <a:xfrm>
            <a:off x="1332000" y="4172040"/>
            <a:ext cx="1822320" cy="11253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8"/>
          <a:stretch/>
        </p:blipFill>
        <p:spPr>
          <a:xfrm>
            <a:off x="961920" y="1585800"/>
            <a:ext cx="1895760" cy="11430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9"/>
          <a:stretch/>
        </p:blipFill>
        <p:spPr>
          <a:xfrm>
            <a:off x="7297560" y="1585800"/>
            <a:ext cx="1503720" cy="1143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0"/>
          <a:stretch/>
        </p:blipFill>
        <p:spPr>
          <a:xfrm>
            <a:off x="3251160" y="2374920"/>
            <a:ext cx="1468440" cy="11397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1"/>
          <a:stretch/>
        </p:blipFill>
        <p:spPr>
          <a:xfrm>
            <a:off x="5624640" y="2287440"/>
            <a:ext cx="1185840" cy="12337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Cotriade de Bretagne - Bretonischer Fischeintopf"/>
          <p:cNvPicPr/>
          <p:nvPr/>
        </p:nvPicPr>
        <p:blipFill>
          <a:blip r:embed="rId22"/>
          <a:stretch/>
        </p:blipFill>
        <p:spPr>
          <a:xfrm>
            <a:off x="6607080" y="4413240"/>
            <a:ext cx="2194200" cy="10875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6607080" y="5691240"/>
            <a:ext cx="21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cotri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280" y="2800440"/>
            <a:ext cx="15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galet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94240" y="3646440"/>
            <a:ext cx="23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kouign a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251160" y="364644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ci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7960" y="5500800"/>
            <a:ext cx="3130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coquil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int-Jac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54320" y="5861160"/>
            <a:ext cx="34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rtichaut, un légume très bre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76240" y="28004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c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912760" y="11224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re de légen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6"/>
          <a:stretch/>
        </p:blipFill>
        <p:spPr>
          <a:xfrm>
            <a:off x="1441440" y="1938240"/>
            <a:ext cx="1487520" cy="19335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321200" y="39862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lin et Vivi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7"/>
          <a:stretch/>
        </p:blipFill>
        <p:spPr>
          <a:xfrm>
            <a:off x="1330200" y="4809960"/>
            <a:ext cx="1860840" cy="10144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050840" y="582444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hur et la Table Ro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38520" y="2033640"/>
            <a:ext cx="464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rlin, l‘enchanteur, est un des compagnons du roi Arthur. Il est amoureux de la fée Viviane qui l‘enferme dans un cercle mag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638520" y="4722840"/>
            <a:ext cx="5324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thur, c‘est le roi de grande et petite Bretag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l possède l'épée Excalibur, fonde la Table Ronde et lance ses chevaliers dans l'aventure du Gra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71440" y="-12600"/>
            <a:ext cx="987480" cy="1127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784680" y="-12600"/>
            <a:ext cx="1647720" cy="1127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4635360"/>
            <a:ext cx="1171440" cy="803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2480" y="1454040"/>
            <a:ext cx="2865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91960" y="2257200"/>
            <a:ext cx="5041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ys et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Bretagne: villes et dépar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mégali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langue bret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boles d‘ident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duits et spécia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e terre de lége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3324240"/>
            <a:ext cx="1171440" cy="131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8032680" y="2932200"/>
            <a:ext cx="1111320" cy="753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5432400" y="533520"/>
            <a:ext cx="1701720" cy="581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2158920" y="-12600"/>
            <a:ext cx="1625760" cy="1127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181080" y="4680"/>
            <a:ext cx="990360" cy="101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8129520" y="19080"/>
            <a:ext cx="881280" cy="1001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0" y="111456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1"/>
          <a:stretch/>
        </p:blipFill>
        <p:spPr>
          <a:xfrm>
            <a:off x="0" y="221940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2"/>
          <a:stretch/>
        </p:blipFill>
        <p:spPr>
          <a:xfrm>
            <a:off x="8032680" y="3686040"/>
            <a:ext cx="1111320" cy="138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3"/>
          <a:stretch/>
        </p:blipFill>
        <p:spPr>
          <a:xfrm>
            <a:off x="8032680" y="1123920"/>
            <a:ext cx="1128960" cy="113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4"/>
          <a:stretch/>
        </p:blipFill>
        <p:spPr>
          <a:xfrm>
            <a:off x="8045280" y="2257560"/>
            <a:ext cx="1116360" cy="674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5"/>
          <a:stretch/>
        </p:blipFill>
        <p:spPr>
          <a:xfrm>
            <a:off x="8045280" y="5072040"/>
            <a:ext cx="1098720" cy="108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6"/>
          <a:stretch/>
        </p:blipFill>
        <p:spPr>
          <a:xfrm>
            <a:off x="0" y="5438880"/>
            <a:ext cx="1171440" cy="1419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7"/>
          <a:stretch/>
        </p:blipFill>
        <p:spPr>
          <a:xfrm>
            <a:off x="7134120" y="-12600"/>
            <a:ext cx="89856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8"/>
          <a:stretch/>
        </p:blipFill>
        <p:spPr>
          <a:xfrm>
            <a:off x="8045280" y="6159600"/>
            <a:ext cx="1098720" cy="706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9"/>
          <a:stretch/>
        </p:blipFill>
        <p:spPr>
          <a:xfrm>
            <a:off x="5432400" y="-12600"/>
            <a:ext cx="170172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60000" y="112248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re de myt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0440" y="599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54280" y="2239920"/>
            <a:ext cx="49881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korrigans sont des lutins qui aiment jouer des mauvais tours aux gens. Ils habitent dans les bois ou dans les maréc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638520" y="4584600"/>
            <a:ext cx="3657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tradition veut qu’il erre la nuit sur un chariot. Si on le rencontre, la mort est procha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6"/>
          <a:stretch/>
        </p:blipFill>
        <p:spPr>
          <a:xfrm>
            <a:off x="1706400" y="1922400"/>
            <a:ext cx="1203480" cy="137016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1755720" y="32925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korri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7"/>
          <a:stretch/>
        </p:blipFill>
        <p:spPr>
          <a:xfrm>
            <a:off x="1638360" y="3952800"/>
            <a:ext cx="1447920" cy="20876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1819440" y="60404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nk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85800" y="80964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: http://www.ph-ludwigsburg.de/html/2b-frnz-s-01/overmann/baf4/bretagn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60560" y="1905120"/>
            <a:ext cx="5956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05160" y="1125360"/>
            <a:ext cx="25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ys et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>
            <a:off x="1549440" y="2068560"/>
            <a:ext cx="1396800" cy="1271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3303720" y="2035080"/>
            <a:ext cx="1616040" cy="1271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8"/>
          <a:stretch/>
        </p:blipFill>
        <p:spPr>
          <a:xfrm>
            <a:off x="5222880" y="2068560"/>
            <a:ext cx="1650960" cy="1238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243920" y="2068560"/>
            <a:ext cx="1346040" cy="1247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51040" y="3851280"/>
            <a:ext cx="804528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Bretagne est une région qui se trouve dans le nord-ouest de 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 capitale est Re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Celtes lui donnait le nom d’Armor (pays de la 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 1532, la Bretagne (un duché à l‘époque) a été unie à 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60560" y="1069920"/>
            <a:ext cx="484992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 Bretage et ses v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6"/>
          <a:stretch/>
        </p:blipFill>
        <p:spPr>
          <a:xfrm>
            <a:off x="1149480" y="2816280"/>
            <a:ext cx="4838400" cy="3179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10480" y="2110680"/>
            <a:ext cx="229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re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nn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nt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imp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nn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int Brieu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int Ma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t Van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10480" y="1641600"/>
            <a:ext cx="152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1440" y="2190600"/>
            <a:ext cx="36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villes les plus connues so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00440" y="599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31920" y="2665440"/>
          <a:ext cx="4006800" cy="3482640"/>
        </p:xfrm>
        <a:graphic>
          <a:graphicData uri="http://schemas.openxmlformats.org/drawingml/2006/table">
            <a:tbl>
              <a:tblPr/>
              <a:tblGrid>
                <a:gridCol w="3574800"/>
                <a:gridCol w="216000"/>
                <a:gridCol w="216000"/>
              </a:tblGrid>
              <a:tr h="297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es Côtes d'Armor (22)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e Finistère (29)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'Ille-et-Vilaine (35)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e Morbihan (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a Loire-Atlantique (4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6" name="" descr=""/>
          <p:cNvPicPr/>
          <p:nvPr/>
        </p:nvPicPr>
        <p:blipFill>
          <a:blip r:embed="rId16"/>
          <a:stretch/>
        </p:blipFill>
        <p:spPr>
          <a:xfrm>
            <a:off x="1779480" y="4024440"/>
            <a:ext cx="9720" cy="47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7"/>
          <a:stretch/>
        </p:blipFill>
        <p:spPr>
          <a:xfrm>
            <a:off x="4255920" y="2905200"/>
            <a:ext cx="4335480" cy="3292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95520" y="13809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65080" y="1344600"/>
            <a:ext cx="48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s départements bre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31920" y="2239920"/>
            <a:ext cx="4268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Bretagne est composée de cinq départements 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0240" y="1914480"/>
            <a:ext cx="848376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ntique Arm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 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s Cel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rivent dans la péninsul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Ils lu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nnent le nom d’Armor (pays de la m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César conquiert tout le p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38240" y="107928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0240" y="4172040"/>
            <a:ext cx="80391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rmor devient la Bretag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s Celtes de Grande-Bretag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rivent dans le pays de la m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s lu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nent son nouveau nom: Bretag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20520" y="2079720"/>
            <a:ext cx="91645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duché de Bretag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minoé, duc de Bretagne, ouvre un dynastie duca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 du roi Alain Barbe-Torte. Période de désordre 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 misè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sque vers la fin du 14e s. (Combat des Trentes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38240" y="122364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20520" y="4378320"/>
            <a:ext cx="761976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ducs de Montfor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64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’est la période la plus éclatante de la Bretag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6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e de Bretagne devient duche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20520" y="2022480"/>
            <a:ext cx="990756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union de la Bretagne à la Fr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laude (fille d’Anne de Bretagne et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s 1er, roi de Fran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ède la Bretagne à la couron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’est l’union de la Bretagne et de la Fr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troubles et révol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es luttes religie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évolution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se: La Bretagne perd son autono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14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La Bretagne dans la Première Guerre mond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38240" y="104904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225520"/>
            <a:ext cx="882000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Bretagne contempora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4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in de l’occupation nazie en Bretag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eaucoup de villes bretonnes détruites (Bres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La formation du Comité d’Études et de Liaison des Inté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retons (CELI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pour améliorer l’économie de la Bret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9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réation du Parc naturel régional d’Armorique et de Br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ctions de proteste par les 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urs et paysans bre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8240" y="122364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7T21:10:59Z</dcterms:created>
  <dc:creator>Timo Gläss</dc:creator>
  <dc:description/>
  <dc:language>en-US</dc:language>
  <cp:lastModifiedBy>Anna Rabin</cp:lastModifiedBy>
  <dcterms:modified xsi:type="dcterms:W3CDTF">2010-02-24T19:28:41Z</dcterms:modified>
  <cp:revision>77</cp:revision>
  <dc:subject/>
  <dc:title>Folie 1</dc:title>
</cp:coreProperties>
</file>