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054-B7DB-41BB-A9CC-6620C2AF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1BD-D4BD-4959-B415-102ED34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F8-BA34-4B16-8C47-BD02FE9A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65A-BD26-4248-96CE-6D95FB4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FDC-547B-485B-8A39-442BE86F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305-90FE-4492-AAF7-6C29DD67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C7B-29C4-49D2-96D4-F82AF86C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EF6-6B5C-4506-809B-53056598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CEF-1B12-42F9-BEF4-1D4CF5EC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956-7F43-4E54-A43D-5F30D5FC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D51-75E4-4C14-98BE-C5C92A1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0D1-9AD2-4446-B471-803077D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2FE-AAC7-43B8-A79D-10CD04E1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4.jpeg"/><Relationship Id="rId17" Type="http://schemas.openxmlformats.org/officeDocument/2006/relationships/image" Target="../media/image33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jpeg"/><Relationship Id="rId21" Type="http://schemas.openxmlformats.org/officeDocument/2006/relationships/image" Target="../media/image14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hyperlink" Target="http://www.pariserve.tm.fr/_vti_bin/shtml.exe/hotel-france/region.htm/map" TargetMode="External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8920" y="1454040"/>
            <a:ext cx="36799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stellar"/>
              </a:rPr>
              <a:t>La Bretagne, c‘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9560" y="2027160"/>
            <a:ext cx="5492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Dutch801 Rm BT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falaises et la 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korri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‘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cidre et 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biniou 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et encore beaucoup pl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pperplate Gothic Bold"/>
              </a:rPr>
              <a:t>- PLONGEZ DANS LES PAGES SUIVANTE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32400" y="2733840"/>
            <a:ext cx="166068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67880" y="785880"/>
            <a:ext cx="449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mégali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ec: „mega“ = grand ; „lithos“  = la pi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4302000" y="2374920"/>
            <a:ext cx="132876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1441440" y="2597040"/>
            <a:ext cx="2276640" cy="15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943440" y="473400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6459480" y="2611440"/>
            <a:ext cx="1879560" cy="153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427040" y="422280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02000" y="422280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men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480" y="42228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ol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626760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>
            <a:off x="3095640" y="1346040"/>
            <a:ext cx="2647800" cy="352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0040" y="513396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men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lus de 5000 de ses grandes pierres dans la région de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dol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tabl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34000" y="203688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chambres funér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2448000" y="1641600"/>
            <a:ext cx="34225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ign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hirs placés 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restes de monuments religi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2448000" y="2000160"/>
            <a:ext cx="353988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1440" y="4967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ée d‘une double rangée de pi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3880" y="237492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trouve souvent au Nord de la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6"/>
          <a:stretch/>
        </p:blipFill>
        <p:spPr>
          <a:xfrm>
            <a:off x="2565360" y="191304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1069920"/>
            <a:ext cx="64753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langue bretonne (ar brezhon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5205240" y="3197160"/>
            <a:ext cx="3133800" cy="2189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441440" y="2019240"/>
            <a:ext cx="647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Breton est une langue cel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jourd‘hui 270000 personnes parlent le breton au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8080" y="4016520"/>
            <a:ext cx="467028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arte montre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t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pays gallo) et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s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ys bret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 parle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dans la première,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et breton dans la sec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03200" y="36464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Bre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0320" y="7855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38360" y="3379680"/>
            <a:ext cx="6543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a été dessiné en 19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ndes représentent les 9 anciens évêché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4 bandes blanches pour la Basse-Bretagn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5 bandes noires pour la Haute-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amp d‘hermines rappelle l‘ancien duché de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1744560" y="2085840"/>
            <a:ext cx="1406520" cy="905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87640" y="2324160"/>
            <a:ext cx="3637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rapeau breton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wen ha du (blanc et no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7"/>
          <a:stretch/>
        </p:blipFill>
        <p:spPr>
          <a:xfrm>
            <a:off x="7923240" y="5597640"/>
            <a:ext cx="25884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1440" y="785520"/>
            <a:ext cx="48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833560" y="1928880"/>
            <a:ext cx="5505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ris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trois éléments du triskell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eau, la terre et le 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1674720" y="221292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09880" y="4097160"/>
            <a:ext cx="542916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‘herm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ur le Gwen ha 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hermine est un des symboles forts de la Bretagne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devis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 la mort que la souill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bien la mentalité des vrais Bre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7"/>
          <a:stretch/>
        </p:blipFill>
        <p:spPr>
          <a:xfrm>
            <a:off x="1820880" y="4097160"/>
            <a:ext cx="509400" cy="1036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20880" y="51339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1674720" y="5734080"/>
            <a:ext cx="89064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47640" y="1069920"/>
            <a:ext cx="4849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4281480"/>
            <a:ext cx="595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6"/>
          <a:stretch/>
        </p:blipFill>
        <p:spPr>
          <a:xfrm>
            <a:off x="4121280" y="473544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7"/>
          <a:stretch/>
        </p:blipFill>
        <p:spPr>
          <a:xfrm>
            <a:off x="1332000" y="4172040"/>
            <a:ext cx="1822320" cy="1125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8"/>
          <a:stretch/>
        </p:blipFill>
        <p:spPr>
          <a:xfrm>
            <a:off x="961920" y="1585800"/>
            <a:ext cx="1895760" cy="1143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9"/>
          <a:stretch/>
        </p:blipFill>
        <p:spPr>
          <a:xfrm>
            <a:off x="7297560" y="1585800"/>
            <a:ext cx="15037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0"/>
          <a:stretch/>
        </p:blipFill>
        <p:spPr>
          <a:xfrm>
            <a:off x="3251160" y="2374920"/>
            <a:ext cx="1468440" cy="113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1"/>
          <a:stretch/>
        </p:blipFill>
        <p:spPr>
          <a:xfrm>
            <a:off x="5624640" y="2287440"/>
            <a:ext cx="1185840" cy="1233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Cotriade de Bretagne - Bretonischer Fischeintopf"/>
          <p:cNvPicPr/>
          <p:nvPr/>
        </p:nvPicPr>
        <p:blipFill>
          <a:blip r:embed="rId22"/>
          <a:stretch/>
        </p:blipFill>
        <p:spPr>
          <a:xfrm>
            <a:off x="6607080" y="4413240"/>
            <a:ext cx="2194200" cy="1087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607080" y="5691240"/>
            <a:ext cx="21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tri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280" y="28004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ga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4240" y="36464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51160" y="364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ci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5500800"/>
            <a:ext cx="3130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oqui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-Jac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4320" y="586116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rtichaut, un légume très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28004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2760" y="1122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41440" y="1938240"/>
            <a:ext cx="1487520" cy="1933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321200" y="3986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lin et Viv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7"/>
          <a:stretch/>
        </p:blipFill>
        <p:spPr>
          <a:xfrm>
            <a:off x="1330200" y="4809960"/>
            <a:ext cx="1860840" cy="1014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50840" y="58244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et la Table R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8520" y="203364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lin, l‘enchanteur, est un des compagnons du roi Arthur. Il est amoureux de la fée Viviane qui l‘enferme dans un cercle mag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8520" y="4722840"/>
            <a:ext cx="5324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hur, c‘est le roi de grande et petite Bretag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 possède l'épée Excalibur, fonde la Table Ronde et lance ses chevaliers dans l'aventure du Gra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2480" y="1454040"/>
            <a:ext cx="2865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1960" y="2257200"/>
            <a:ext cx="5041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: villes et dépar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langue bret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e terre de lég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0" y="11224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my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54280" y="2239920"/>
            <a:ext cx="498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korrigans sont des lutins qui aiment jouer des mauvais tours aux gens. Ils habitent dans les bois ou dans les maréc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8520" y="458460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tradition veut qu’il erre la nuit sur un chariot. Si on le rencontre, la mort est proch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1706400" y="1922400"/>
            <a:ext cx="1203480" cy="13701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755720" y="3292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r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1638360" y="3952800"/>
            <a:ext cx="1447920" cy="208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19440" y="6040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809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http://www.ph-ludwigsburg.de/html/2b-frnz-s-01/overmann/baf4/bretagn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5160" y="11253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549440" y="2068560"/>
            <a:ext cx="139680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303720" y="2035080"/>
            <a:ext cx="1616040" cy="12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5222880" y="2068560"/>
            <a:ext cx="1650960" cy="123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43920" y="2068560"/>
            <a:ext cx="134604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1040" y="3851280"/>
            <a:ext cx="80452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une région qui se trouve dans le nord-ouest de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 capitale est R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eltes lui donnait le nom d’Armor (pays de la 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1532, la Bretagne (un duché à l‘époque) a été unie à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069920"/>
            <a:ext cx="48499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Bretage et ses v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1149480" y="2816280"/>
            <a:ext cx="4838400" cy="31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10480" y="2110680"/>
            <a:ext cx="22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n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mp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Brieu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Ma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 Va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0480" y="1641600"/>
            <a:ext cx="152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2190600"/>
            <a:ext cx="36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villes les plus connues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31920" y="2665440"/>
          <a:ext cx="4006800" cy="3482640"/>
        </p:xfrm>
        <a:graphic>
          <a:graphicData uri="http://schemas.openxmlformats.org/drawingml/2006/table">
            <a:tbl>
              <a:tblPr/>
              <a:tblGrid>
                <a:gridCol w="3574800"/>
                <a:gridCol w="216000"/>
                <a:gridCol w="216000"/>
              </a:tblGrid>
              <a:tr h="29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s Côtes d'Armor (22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Finistère (29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'Ille-et-Vilaine (35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Morbihan (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 Loire-Atlantique (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779480" y="402444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255920" y="2905200"/>
            <a:ext cx="4335480" cy="329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5520" y="138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080" y="13446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départements br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1920" y="2239920"/>
            <a:ext cx="426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composée de cinq départemen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240" y="1914480"/>
            <a:ext cx="84837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tique Ar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 Cel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rivent dans la péninsu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nent le nom d’Armor (pays de la 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César conquiert tout le p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8240" y="107928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240" y="4172040"/>
            <a:ext cx="803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mor devient la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s Celtes de Grande-Bret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ivent dans le pays de la 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nent son nouveau nom: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0520" y="2079720"/>
            <a:ext cx="9164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uché de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inoé, duc de Bretagne, ouvre un dynastie duca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 du roi Alain Barbe-Torte. Période de désordre 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misè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que vers la fin du 14e s. (Combat des Trente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0520" y="437832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ucs de Mont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4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a période la plus éclatante de la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de Bretagne devient duch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0520" y="2022480"/>
            <a:ext cx="9907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 de la Bretagne à la Fr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laude (fille d’Anne de Bretagne et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 1er, roi de Fr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ède la Bretagne à la couro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’est l’union de la Bretagne et de la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bles et révol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 luttes relig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évolution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e: La Bretagne perd son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Bretagne dans la Première Guerre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8240" y="10490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25520"/>
            <a:ext cx="8820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retagne contempora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n de l’occupation nazie en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aucoup de villes bretonnes détruites (Bre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formation du Comité d’Études et de Liaison des Inté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retons (CELI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pour améliorer l’économie de la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réation du Parc naturel régional d’Armorique et de B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tions de proteste par les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urs et paysans bre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21:10:59Z</dcterms:created>
  <dc:creator>Timo Gläss</dc:creator>
  <dc:description/>
  <dc:language>en-US</dc:language>
  <cp:lastModifiedBy>Anna Rabin</cp:lastModifiedBy>
  <dcterms:modified xsi:type="dcterms:W3CDTF">2010-02-24T19:28:41Z</dcterms:modified>
  <cp:revision>77</cp:revision>
  <dc:subject/>
  <dc:title>Folie 1</dc:title>
</cp:coreProperties>
</file>