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4.jpeg" ContentType="image/jpeg"/>
  <Override PartName="/ppt/media/image28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9.png" ContentType="image/png"/>
  <Override PartName="/ppt/media/image22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5E4-BB41-4008-B1A8-36FE6A1F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A6C-1451-4EA8-BE92-46E85D7D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12D-F03D-4561-BF55-1A679989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411-F8BD-40C8-AF89-0DCE4254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0B1-D73A-404E-84ED-E044494F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9A1-F7E9-49C1-A57D-5BBDF3FB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0CF-AC06-4447-974E-61650590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BC4-3A0B-4C07-9DC5-9A655766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D74-0165-4130-9885-FC47630B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22E-C6E5-483D-B5AF-BE4F18A6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1F0-0228-4FEA-8346-0FD32FF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5AC-6513-4E4C-9A56-E3F9BB45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7BE3-991F-4B37-AE4B-FEECCC0CB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4.jpeg"/><Relationship Id="rId17" Type="http://schemas.openxmlformats.org/officeDocument/2006/relationships/image" Target="../media/image33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.jpeg"/><Relationship Id="rId21" Type="http://schemas.openxmlformats.org/officeDocument/2006/relationships/image" Target="../media/image14.jpeg"/><Relationship Id="rId22" Type="http://schemas.openxmlformats.org/officeDocument/2006/relationships/image" Target="../media/image39.jpe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10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hyperlink" Target="http://www.pariserve.tm.fr/_vti_bin/shtml.exe/hotel-france/region.htm/map" TargetMode="External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58920" y="1454040"/>
            <a:ext cx="36799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stellar"/>
              </a:rPr>
              <a:t>La Bretagne, c‘e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79560" y="2027160"/>
            <a:ext cx="5492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Dutch801 Rm BT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falaises et la 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korri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‘h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cidre et 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biniou b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p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et encore beaucoup pl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pperplate Gothic Bold"/>
              </a:rPr>
              <a:t>- PLONGEZ DANS LES PAGES SUIVANTE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32400" y="2733840"/>
            <a:ext cx="166068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67880" y="785880"/>
            <a:ext cx="4496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mégalit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rec: „mega“ = grand ; „lithos“  = la pi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4302000" y="2374920"/>
            <a:ext cx="1328760" cy="17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1441440" y="2597040"/>
            <a:ext cx="2276640" cy="154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3943440" y="4734000"/>
            <a:ext cx="2044440" cy="1533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6459480" y="2611440"/>
            <a:ext cx="1879560" cy="1533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427040" y="422280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i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02000" y="422280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men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9480" y="422280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ol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43440" y="626760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6"/>
          <a:stretch/>
        </p:blipFill>
        <p:spPr>
          <a:xfrm>
            <a:off x="3095640" y="1346040"/>
            <a:ext cx="2647800" cy="3525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0040" y="513396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men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l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lus de 5000 de ses grandes pierres dans la région de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dol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tabl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34000" y="203688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chambres funér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2448000" y="1641600"/>
            <a:ext cx="34225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ign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hirs placés e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restes de monuments religie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6"/>
          <a:stretch/>
        </p:blipFill>
        <p:spPr>
          <a:xfrm>
            <a:off x="2448000" y="2000160"/>
            <a:ext cx="3539880" cy="24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1440" y="4967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ée d‘une double rangée de pie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73880" y="237492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trouve souvent au Nord de la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6"/>
          <a:stretch/>
        </p:blipFill>
        <p:spPr>
          <a:xfrm>
            <a:off x="2565360" y="1913040"/>
            <a:ext cx="342252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1069920"/>
            <a:ext cx="64753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langue bretonne (ar brezhon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6"/>
          <a:stretch/>
        </p:blipFill>
        <p:spPr>
          <a:xfrm>
            <a:off x="5205240" y="3197160"/>
            <a:ext cx="3133800" cy="2189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441440" y="2019240"/>
            <a:ext cx="647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Breton est une langue cel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jourd‘hui 270000 personnes parlent le breton au quoti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8080" y="4016520"/>
            <a:ext cx="467028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arte montre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t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 pays gallo) et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ss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pays bret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 parle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dans la première,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et breton dans la sec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03200" y="364644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deux Breta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60320" y="785520"/>
            <a:ext cx="46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638360" y="3379680"/>
            <a:ext cx="6543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rapeau a été dessiné en 19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bandes représentent les 9 anciens évêché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4 bandes blanches pour la Basse-Bretagn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5 bandes noires pour la Haute-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hamp d‘hermines rappelle l‘ancien duché de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6"/>
          <a:stretch/>
        </p:blipFill>
        <p:spPr>
          <a:xfrm>
            <a:off x="1744560" y="2085840"/>
            <a:ext cx="1406520" cy="9050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87640" y="2324160"/>
            <a:ext cx="3637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drapeau breton 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wen ha du (blanc et no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7"/>
          <a:stretch/>
        </p:blipFill>
        <p:spPr>
          <a:xfrm>
            <a:off x="7923240" y="5597640"/>
            <a:ext cx="258840" cy="5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1440" y="785520"/>
            <a:ext cx="48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833560" y="1928880"/>
            <a:ext cx="5505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risk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trois éléments du triskell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eau, la terre et le f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6"/>
          <a:stretch/>
        </p:blipFill>
        <p:spPr>
          <a:xfrm>
            <a:off x="1674720" y="2212920"/>
            <a:ext cx="890640" cy="890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909880" y="4097160"/>
            <a:ext cx="542916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‘hermin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ur le Gwen ha 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hermine est un des symboles forts de la Bretagne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devis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l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 la mort que la souill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résente bien la mentalité des vrais Bret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7"/>
          <a:stretch/>
        </p:blipFill>
        <p:spPr>
          <a:xfrm>
            <a:off x="1820880" y="4097160"/>
            <a:ext cx="509400" cy="1036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820880" y="51339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8"/>
          <a:stretch/>
        </p:blipFill>
        <p:spPr>
          <a:xfrm>
            <a:off x="1674720" y="5734080"/>
            <a:ext cx="89064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47640" y="1069920"/>
            <a:ext cx="4849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6280" y="4281480"/>
            <a:ext cx="595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6"/>
          <a:stretch/>
        </p:blipFill>
        <p:spPr>
          <a:xfrm>
            <a:off x="4121280" y="4735440"/>
            <a:ext cx="1503360" cy="1125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7"/>
          <a:stretch/>
        </p:blipFill>
        <p:spPr>
          <a:xfrm>
            <a:off x="1332000" y="4172040"/>
            <a:ext cx="1822320" cy="1125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8"/>
          <a:stretch/>
        </p:blipFill>
        <p:spPr>
          <a:xfrm>
            <a:off x="961920" y="1585800"/>
            <a:ext cx="1895760" cy="1143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9"/>
          <a:stretch/>
        </p:blipFill>
        <p:spPr>
          <a:xfrm>
            <a:off x="7297560" y="1585800"/>
            <a:ext cx="150372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0"/>
          <a:stretch/>
        </p:blipFill>
        <p:spPr>
          <a:xfrm>
            <a:off x="3251160" y="2374920"/>
            <a:ext cx="1468440" cy="1139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1"/>
          <a:stretch/>
        </p:blipFill>
        <p:spPr>
          <a:xfrm>
            <a:off x="5624640" y="2287440"/>
            <a:ext cx="1185840" cy="1233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Cotriade de Bretagne - Bretonischer Fischeintopf"/>
          <p:cNvPicPr/>
          <p:nvPr/>
        </p:nvPicPr>
        <p:blipFill>
          <a:blip r:embed="rId22"/>
          <a:stretch/>
        </p:blipFill>
        <p:spPr>
          <a:xfrm>
            <a:off x="6607080" y="4413240"/>
            <a:ext cx="2194200" cy="1087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607080" y="5691240"/>
            <a:ext cx="21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otri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280" y="28004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gal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4240" y="364644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51160" y="36464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ci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7960" y="5500800"/>
            <a:ext cx="3130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oqui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-Jac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54320" y="5861160"/>
            <a:ext cx="34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rtichaut, un légume très br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240" y="28004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2760" y="11224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lége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6"/>
          <a:stretch/>
        </p:blipFill>
        <p:spPr>
          <a:xfrm>
            <a:off x="1441440" y="1938240"/>
            <a:ext cx="1487520" cy="19335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321200" y="3986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lin et Viv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7"/>
          <a:stretch/>
        </p:blipFill>
        <p:spPr>
          <a:xfrm>
            <a:off x="1330200" y="4809960"/>
            <a:ext cx="1860840" cy="10144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050840" y="582444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et la Table R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38520" y="203364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rlin, l‘enchanteur, est un des compagnons du roi Arthur. Il est amoureux de la fée Viviane qui l‘enferme dans un cercle mag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8520" y="4722840"/>
            <a:ext cx="5324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thur, c‘est le roi de grande et petite Bretag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l possède l'épée Excalibur, fonde la Table Ronde et lance ses chevaliers dans l'aventure du Gra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2480" y="1454040"/>
            <a:ext cx="2865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91960" y="2257200"/>
            <a:ext cx="5041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: villes et dépar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langue bret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e terre de lége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7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60000" y="112248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my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54280" y="2239920"/>
            <a:ext cx="4988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korrigans sont des lutins qui aiment jouer des mauvais tours aux gens. Ils habitent dans les bois ou dans les maréc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38520" y="4584600"/>
            <a:ext cx="365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tradition veut qu’il erre la nuit sur un chariot. Si on le rencontre, la mort est proch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6"/>
          <a:stretch/>
        </p:blipFill>
        <p:spPr>
          <a:xfrm>
            <a:off x="1706400" y="1922400"/>
            <a:ext cx="1203480" cy="13701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755720" y="3292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rr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7"/>
          <a:stretch/>
        </p:blipFill>
        <p:spPr>
          <a:xfrm>
            <a:off x="1638360" y="3952800"/>
            <a:ext cx="1447920" cy="20876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819440" y="6040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8096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http://www.ph-ludwigsburg.de/html/2b-frnz-s-01/overmann/baf4/bretagn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5160" y="112536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1549440" y="2068560"/>
            <a:ext cx="1396800" cy="12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3303720" y="2035080"/>
            <a:ext cx="1616040" cy="1271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>
            <a:off x="5222880" y="2068560"/>
            <a:ext cx="1650960" cy="1238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43920" y="2068560"/>
            <a:ext cx="1346040" cy="12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51040" y="3851280"/>
            <a:ext cx="804528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une région qui se trouve dans le nord-ouest de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 capitale est R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eltes lui donnait le nom d’Armor (pays de la 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1532, la Bretagne (un duché à l‘époque) a été unie à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60560" y="1069920"/>
            <a:ext cx="48499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Bretage et ses v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1149480" y="2816280"/>
            <a:ext cx="4838400" cy="317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10480" y="2110680"/>
            <a:ext cx="22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n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imp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n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Brieu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Ma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t Va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10480" y="1641600"/>
            <a:ext cx="152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1440" y="2190600"/>
            <a:ext cx="36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villes les plus connues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31920" y="2665440"/>
          <a:ext cx="4006800" cy="3482640"/>
        </p:xfrm>
        <a:graphic>
          <a:graphicData uri="http://schemas.openxmlformats.org/drawingml/2006/table">
            <a:tbl>
              <a:tblPr/>
              <a:tblGrid>
                <a:gridCol w="3574800"/>
                <a:gridCol w="216000"/>
                <a:gridCol w="216000"/>
              </a:tblGrid>
              <a:tr h="297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s Côtes d'Armor (22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Finistère (29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'Ille-et-Vilaine (35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Morbihan (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a Loire-Atlantique (4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1779480" y="402444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4255920" y="2905200"/>
            <a:ext cx="4335480" cy="329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95520" y="138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5080" y="13446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départements br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31920" y="2239920"/>
            <a:ext cx="426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composée de cinq départements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240" y="1914480"/>
            <a:ext cx="84837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tique Ar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 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s Cel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rivent dans la péninsul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nnent le nom d’Armor (pays de la 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César conquiert tout le p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38240" y="107928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0240" y="4172040"/>
            <a:ext cx="803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mor devient la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s Celtes de Grande-Bret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ivent dans le pays de la m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nent son nouveau nom: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0520" y="2079720"/>
            <a:ext cx="91645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uché de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minoé, duc de Bretagne, ouvre un dynastie duca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 du roi Alain Barbe-Torte. Période de désordre 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misè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que vers la fin du 14e s. (Combat des Trentes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0520" y="4378320"/>
            <a:ext cx="76197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ucs de Montfo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4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la période la plus éclatante de la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 de Bretagne devient duche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0520" y="2022480"/>
            <a:ext cx="9907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union de la Bretagne à la Fr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laude (fille d’Anne de Bretagne et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s 1er, roi de Fr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ède la Bretagne à la couro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’est l’union de la Bretagne et de la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troubles et révol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 luttes relig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évolution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e: La Bretagne perd son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Bretagne dans la Première Guerre mond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38240" y="10490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25520"/>
            <a:ext cx="88200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retagne contempora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n de l’occupation nazie en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aucoup de villes bretonnes détruites (Bres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formation du Comité d’Études et de Liaison des Inté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retons (CELI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pour améliorer l’économie de la 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9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réation du Parc naturel régional d’Armorique et de Br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tions de proteste par les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urs et paysans bre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21:10:59Z</dcterms:created>
  <dc:creator>Timo Gläss</dc:creator>
  <dc:description/>
  <dc:language>en-US</dc:language>
  <cp:lastModifiedBy>Anna Rabin</cp:lastModifiedBy>
  <dcterms:modified xsi:type="dcterms:W3CDTF">2010-02-24T19:28:41Z</dcterms:modified>
  <cp:revision>77</cp:revision>
  <dc:subject/>
  <dc:title>Folie 1</dc:title>
</cp:coreProperties>
</file>