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4.gif" ContentType="image/gif"/>
  <Override PartName="/ppt/media/image33.jpeg" ContentType="image/jpeg"/>
  <Override PartName="/ppt/media/image25.png" ContentType="image/png"/>
  <Override PartName="/ppt/media/image19.jpeg" ContentType="image/jpeg"/>
  <Override PartName="/ppt/media/image24.png" ContentType="image/png"/>
  <Override PartName="/ppt/media/image21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11.png" ContentType="image/png"/>
  <Override PartName="/ppt/media/image12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png" ContentType="image/png"/>
  <Override PartName="/ppt/media/image6.png" ContentType="image/png"/>
  <Override PartName="/ppt/media/image32.jpeg" ContentType="image/jpeg"/>
  <Override PartName="/ppt/media/image34.jpeg" ContentType="image/jpeg"/>
  <Override PartName="/ppt/media/image28.jpeg" ContentType="image/jpeg"/>
  <Override PartName="/ppt/media/image40.png" ContentType="image/png"/>
  <Override PartName="/ppt/media/image41.png" ContentType="image/png"/>
  <Override PartName="/ppt/media/image42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7.jpeg" ContentType="image/jpeg"/>
  <Override PartName="/ppt/media/image38.jpeg" ContentType="image/jpeg"/>
  <Override PartName="/ppt/media/image5.gif" ContentType="image/gif"/>
  <Override PartName="/ppt/media/image14.jpeg" ContentType="image/jpeg"/>
  <Override PartName="/ppt/media/image9.png" ContentType="image/png"/>
  <Override PartName="/ppt/media/image22.jpeg" ContentType="image/jpeg"/>
  <Override PartName="/ppt/media/image35.jpeg" ContentType="image/jpeg"/>
  <Override PartName="/ppt/media/image1.jpeg" ContentType="image/jpe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3590-A2C4-4D32-BF6B-0642E5BD7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474A-3652-40DD-A136-4055B1029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9AD7-4074-4D83-BC66-2D7F74C38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E8E1-1743-484D-94B7-1E630A612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FC17-5559-42DC-9704-816984550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66FE-94AA-480F-9AD6-056106B6D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63F2-B0C8-4250-96D4-59BD9FE2E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E411-C2B2-4331-805B-791DC1B8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936E-C382-48BB-8914-2F9F18E21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BEE6-5C30-44E8-9C6E-B4B8F786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068C-80B7-425F-AA8C-A199AE6C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015E-4BB9-49A0-B4BD-3A597A9B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BC6D4-EF58-4CAC-99BA-71975FF95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pn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image" Target="../media/image2.jpeg"/><Relationship Id="rId17" Type="http://schemas.openxmlformats.org/officeDocument/2006/relationships/image" Target="../media/image28.jpeg"/><Relationship Id="rId18" Type="http://schemas.openxmlformats.org/officeDocument/2006/relationships/image" Target="../media/image29.jpeg"/><Relationship Id="rId19" Type="http://schemas.openxmlformats.org/officeDocument/2006/relationships/image" Target="../media/image30.jpeg"/><Relationship Id="rId2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image" Target="../media/image2.jpeg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image" Target="../media/image30.jpeg"/><Relationship Id="rId1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image" Target="../media/image28.jpeg"/><Relationship Id="rId1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image" Target="../media/image29.jpeg"/><Relationship Id="rId1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image" Target="../media/image31.png"/><Relationship Id="rId1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image" Target="../media/image32.jpeg"/><Relationship Id="rId17" Type="http://schemas.openxmlformats.org/officeDocument/2006/relationships/image" Target="../media/image33.jpeg"/><Relationship Id="rId1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image" Target="../media/image34.jpeg"/><Relationship Id="rId17" Type="http://schemas.openxmlformats.org/officeDocument/2006/relationships/image" Target="../media/image33.jpeg"/><Relationship Id="rId18" Type="http://schemas.openxmlformats.org/officeDocument/2006/relationships/image" Target="../media/image19.jpeg"/><Relationship Id="rId1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image" Target="../media/image35.jpeg"/><Relationship Id="rId17" Type="http://schemas.openxmlformats.org/officeDocument/2006/relationships/image" Target="../media/image36.jpeg"/><Relationship Id="rId18" Type="http://schemas.openxmlformats.org/officeDocument/2006/relationships/image" Target="../media/image37.jpeg"/><Relationship Id="rId19" Type="http://schemas.openxmlformats.org/officeDocument/2006/relationships/image" Target="../media/image38.jpeg"/><Relationship Id="rId20" Type="http://schemas.openxmlformats.org/officeDocument/2006/relationships/image" Target="../media/image3.jpeg"/><Relationship Id="rId21" Type="http://schemas.openxmlformats.org/officeDocument/2006/relationships/image" Target="../media/image14.jpeg"/><Relationship Id="rId22" Type="http://schemas.openxmlformats.org/officeDocument/2006/relationships/image" Target="../media/image39.jpeg"/><Relationship Id="rId2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image" Target="../media/image40.png"/><Relationship Id="rId17" Type="http://schemas.openxmlformats.org/officeDocument/2006/relationships/image" Target="../media/image41.png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1.jpe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5.png"/><Relationship Id="rId15" Type="http://schemas.openxmlformats.org/officeDocument/2006/relationships/image" Target="../media/image16.jpeg"/><Relationship Id="rId16" Type="http://schemas.openxmlformats.org/officeDocument/2006/relationships/image" Target="../media/image17.jpeg"/><Relationship Id="rId17" Type="http://schemas.openxmlformats.org/officeDocument/2006/relationships/image" Target="../media/image18.jpeg"/><Relationship Id="rId18" Type="http://schemas.openxmlformats.org/officeDocument/2006/relationships/image" Target="../media/image19.jpeg"/><Relationship Id="rId19" Type="http://schemas.openxmlformats.org/officeDocument/2006/relationships/image" Target="../media/image20.jpeg"/><Relationship Id="rId2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image" Target="../media/image10.png"/><Relationship Id="rId17" Type="http://schemas.openxmlformats.org/officeDocument/2006/relationships/image" Target="../media/image42.png"/><Relationship Id="rId1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image" Target="../media/image21.png"/><Relationship Id="rId17" Type="http://schemas.openxmlformats.org/officeDocument/2006/relationships/image" Target="../media/image22.jpeg"/><Relationship Id="rId18" Type="http://schemas.openxmlformats.org/officeDocument/2006/relationships/image" Target="../media/image23.jpeg"/><Relationship Id="rId19" Type="http://schemas.openxmlformats.org/officeDocument/2006/relationships/hyperlink" Target="http://www.pariserve.tm.fr/_vti_bin/shtml.exe/hotel-france/region.htm/map" TargetMode="External"/><Relationship Id="rId20" Type="http://schemas.openxmlformats.org/officeDocument/2006/relationships/image" Target="../media/image24.png"/><Relationship Id="rId2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image" Target="../media/image25.png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image" Target="../media/image26.png"/><Relationship Id="rId17" Type="http://schemas.openxmlformats.org/officeDocument/2006/relationships/image" Target="../media/image27.png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-12600"/>
            <a:ext cx="1625760" cy="11271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171440" y="-12600"/>
            <a:ext cx="987480" cy="11271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784680" y="-12600"/>
            <a:ext cx="1647720" cy="11271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0" y="4635360"/>
            <a:ext cx="1171440" cy="8035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58920" y="1454040"/>
            <a:ext cx="367992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stellar"/>
              </a:rPr>
              <a:t>La Bretagne, c‘es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879560" y="2027160"/>
            <a:ext cx="5492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Dutch801 Rm BT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…</a:t>
            </a: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les falaises et la m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…</a:t>
            </a: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les korrig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…</a:t>
            </a: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les mégalit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…</a:t>
            </a: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l‘herm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…</a:t>
            </a: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le cidre et le kouign ama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…</a:t>
            </a: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le biniou bra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…</a:t>
            </a: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les ph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         </a:t>
            </a: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et encore beaucoup plus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pperplate Gothic Bold"/>
              </a:rPr>
              <a:t>- PLONGEZ DANS LES PAGES SUIVANTES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5432400" y="2733840"/>
            <a:ext cx="1660680" cy="1179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0" y="3324240"/>
            <a:ext cx="1171440" cy="1311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8032680" y="2932200"/>
            <a:ext cx="1111320" cy="753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5432400" y="533520"/>
            <a:ext cx="1701720" cy="581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181080" y="4680"/>
            <a:ext cx="990360" cy="1015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8129520" y="19080"/>
            <a:ext cx="881280" cy="1001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1"/>
          <a:stretch/>
        </p:blipFill>
        <p:spPr>
          <a:xfrm>
            <a:off x="0" y="1114560"/>
            <a:ext cx="1171440" cy="1104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2"/>
          <a:stretch/>
        </p:blipFill>
        <p:spPr>
          <a:xfrm>
            <a:off x="0" y="2219400"/>
            <a:ext cx="1171440" cy="1104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3"/>
          <a:stretch/>
        </p:blipFill>
        <p:spPr>
          <a:xfrm>
            <a:off x="8032680" y="3686040"/>
            <a:ext cx="1111320" cy="1386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4"/>
          <a:stretch/>
        </p:blipFill>
        <p:spPr>
          <a:xfrm>
            <a:off x="8032680" y="1123920"/>
            <a:ext cx="1128960" cy="1133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5"/>
          <a:stretch/>
        </p:blipFill>
        <p:spPr>
          <a:xfrm>
            <a:off x="8045280" y="2257560"/>
            <a:ext cx="1116360" cy="674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6"/>
          <a:stretch/>
        </p:blipFill>
        <p:spPr>
          <a:xfrm>
            <a:off x="8045280" y="5072040"/>
            <a:ext cx="1098720" cy="10875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7"/>
          <a:stretch/>
        </p:blipFill>
        <p:spPr>
          <a:xfrm>
            <a:off x="0" y="5438880"/>
            <a:ext cx="1171440" cy="1419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8"/>
          <a:stretch/>
        </p:blipFill>
        <p:spPr>
          <a:xfrm>
            <a:off x="7134120" y="-12600"/>
            <a:ext cx="898560" cy="1143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9"/>
          <a:stretch/>
        </p:blipFill>
        <p:spPr>
          <a:xfrm>
            <a:off x="8045280" y="6159600"/>
            <a:ext cx="1098720" cy="706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0"/>
          <a:stretch/>
        </p:blipFill>
        <p:spPr>
          <a:xfrm>
            <a:off x="5432400" y="-12600"/>
            <a:ext cx="1701720" cy="56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938240" y="5133960"/>
            <a:ext cx="6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960560" y="1905120"/>
            <a:ext cx="595620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567880" y="785880"/>
            <a:ext cx="449676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es mégalith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grec: „mega“ = grand ; „lithos“  = la pier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6"/>
          <a:stretch/>
        </p:blipFill>
        <p:spPr>
          <a:xfrm>
            <a:off x="4302000" y="2374920"/>
            <a:ext cx="1328760" cy="17701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17"/>
          <a:stretch/>
        </p:blipFill>
        <p:spPr>
          <a:xfrm>
            <a:off x="1441440" y="2597040"/>
            <a:ext cx="2276640" cy="1548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18"/>
          <a:stretch/>
        </p:blipFill>
        <p:spPr>
          <a:xfrm>
            <a:off x="3943440" y="4734000"/>
            <a:ext cx="2044440" cy="15336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19"/>
          <a:stretch/>
        </p:blipFill>
        <p:spPr>
          <a:xfrm>
            <a:off x="6459480" y="2611440"/>
            <a:ext cx="1879560" cy="15336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427040" y="4222800"/>
            <a:ext cx="227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‘alig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02000" y="4222800"/>
            <a:ext cx="13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 menh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459480" y="4222800"/>
            <a:ext cx="187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 dol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43440" y="6267600"/>
            <a:ext cx="21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‘allée cou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1938240" y="5133960"/>
            <a:ext cx="6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6"/>
          <a:stretch/>
        </p:blipFill>
        <p:spPr>
          <a:xfrm>
            <a:off x="3095640" y="1346040"/>
            <a:ext cx="2647800" cy="352584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1670040" y="5133960"/>
            <a:ext cx="5516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Le menhi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m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bret. = pierre;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hi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bret. = lo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534000" y="2036880"/>
            <a:ext cx="1805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lus de 5000 de ses grandes pierres dans la région de Bretag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938240" y="5133960"/>
            <a:ext cx="6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441440" y="4967280"/>
            <a:ext cx="5516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Le dolm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dol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bret. = table;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m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bret. = pier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534000" y="2036880"/>
            <a:ext cx="1805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On les considère comme des chambres funérai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6"/>
          <a:stretch/>
        </p:blipFill>
        <p:spPr>
          <a:xfrm>
            <a:off x="2448000" y="1641600"/>
            <a:ext cx="3422520" cy="279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938240" y="5133960"/>
            <a:ext cx="6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441440" y="4967280"/>
            <a:ext cx="5516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L‘alignemen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nhirs placés en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534000" y="2036880"/>
            <a:ext cx="1805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On les considère comme des restes de monuments religieu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6"/>
          <a:stretch/>
        </p:blipFill>
        <p:spPr>
          <a:xfrm>
            <a:off x="2448000" y="2000160"/>
            <a:ext cx="3539880" cy="240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1938240" y="5133960"/>
            <a:ext cx="6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441440" y="4967280"/>
            <a:ext cx="63309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L‘allée couvert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ormée d‘une double rangée de pier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473880" y="2374920"/>
            <a:ext cx="1805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On les trouve souvent au Nord de la Bretag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6"/>
          <a:stretch/>
        </p:blipFill>
        <p:spPr>
          <a:xfrm>
            <a:off x="2565360" y="1913040"/>
            <a:ext cx="3422520" cy="256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1938240" y="5133960"/>
            <a:ext cx="6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960560" y="1905120"/>
            <a:ext cx="595620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1120" y="1069920"/>
            <a:ext cx="647532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a langue bretonne (ar brezhone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6"/>
          <a:stretch/>
        </p:blipFill>
        <p:spPr>
          <a:xfrm>
            <a:off x="5205240" y="3197160"/>
            <a:ext cx="3133800" cy="21891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1441440" y="2019240"/>
            <a:ext cx="6475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 Breton est une langue cel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jourd‘hui 270000 personnes parlent le breton au quotid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378080" y="4016520"/>
            <a:ext cx="4670280" cy="29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a carte montre la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aute-Bretagn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 pays gallo) et la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asse-Bretagn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pays breton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n parle fr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ç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is dans la première, fr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ç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is et breton dans la secon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303200" y="3646440"/>
            <a:ext cx="37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s deux Bretag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60320" y="785520"/>
            <a:ext cx="460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ymboles d‘ident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1638360" y="3379680"/>
            <a:ext cx="654372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drapeau a été dessiné en 192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bandes représentent les 9 anciens évêchés: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les 4 bandes blanches pour la Basse-Bretagne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les 5 bandes noires pour la Haute-Breta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champ d‘hermines rappelle l‘ancien duché de Bretag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6"/>
          <a:stretch/>
        </p:blipFill>
        <p:spPr>
          <a:xfrm>
            <a:off x="1744560" y="2085840"/>
            <a:ext cx="1406520" cy="90504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3887640" y="2324160"/>
            <a:ext cx="36370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e drapeau breton -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Gwen ha du (blanc et no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7"/>
          <a:stretch/>
        </p:blipFill>
        <p:spPr>
          <a:xfrm>
            <a:off x="7923240" y="5597640"/>
            <a:ext cx="258840" cy="52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7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2" dur="5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7" dur="5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41440" y="785520"/>
            <a:ext cx="484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ymboles d‘ident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2833560" y="1928880"/>
            <a:ext cx="55054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 triske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s trois éléments du triskell son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'eau, la terre et le f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6"/>
          <a:stretch/>
        </p:blipFill>
        <p:spPr>
          <a:xfrm>
            <a:off x="1674720" y="2212920"/>
            <a:ext cx="890640" cy="89064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2909880" y="4097160"/>
            <a:ext cx="5429160" cy="22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‘hermine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sur le Gwen ha d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'hermine est un des symboles forts de la Bretagne.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a devise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Plu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ô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t la mort que la souillur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présente bien la mentalité des vrais Breton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7"/>
          <a:stretch/>
        </p:blipFill>
        <p:spPr>
          <a:xfrm>
            <a:off x="1820880" y="4097160"/>
            <a:ext cx="509400" cy="10368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1820880" y="5133960"/>
            <a:ext cx="6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8"/>
          <a:stretch/>
        </p:blipFill>
        <p:spPr>
          <a:xfrm>
            <a:off x="1674720" y="5734080"/>
            <a:ext cx="890640" cy="54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0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447640" y="1069920"/>
            <a:ext cx="4849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duits et Spécial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1938240" y="5133960"/>
            <a:ext cx="6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376280" y="4281480"/>
            <a:ext cx="595656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6"/>
          <a:stretch/>
        </p:blipFill>
        <p:spPr>
          <a:xfrm>
            <a:off x="4121280" y="4735440"/>
            <a:ext cx="1503360" cy="112572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17"/>
          <a:stretch/>
        </p:blipFill>
        <p:spPr>
          <a:xfrm>
            <a:off x="1332000" y="4172040"/>
            <a:ext cx="1822320" cy="112536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18"/>
          <a:stretch/>
        </p:blipFill>
        <p:spPr>
          <a:xfrm>
            <a:off x="961920" y="1585800"/>
            <a:ext cx="1895760" cy="114300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19"/>
          <a:stretch/>
        </p:blipFill>
        <p:spPr>
          <a:xfrm>
            <a:off x="7297560" y="1585800"/>
            <a:ext cx="1503720" cy="114300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20"/>
          <a:stretch/>
        </p:blipFill>
        <p:spPr>
          <a:xfrm>
            <a:off x="3251160" y="2374920"/>
            <a:ext cx="1468440" cy="113976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21"/>
          <a:stretch/>
        </p:blipFill>
        <p:spPr>
          <a:xfrm>
            <a:off x="5624640" y="2287440"/>
            <a:ext cx="1185840" cy="123372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Cotriade de Bretagne - Bretonischer Fischeintopf"/>
          <p:cNvPicPr/>
          <p:nvPr/>
        </p:nvPicPr>
        <p:blipFill>
          <a:blip r:embed="rId22"/>
          <a:stretch/>
        </p:blipFill>
        <p:spPr>
          <a:xfrm>
            <a:off x="6607080" y="4413240"/>
            <a:ext cx="2194200" cy="108756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6607080" y="5691240"/>
            <a:ext cx="219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a cotri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307280" y="2800440"/>
            <a:ext cx="15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s galet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394240" y="3646440"/>
            <a:ext cx="23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 kouign ama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251160" y="3646440"/>
            <a:ext cx="14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 cid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07960" y="5500800"/>
            <a:ext cx="3130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s coquil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aint-Jac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154320" y="5861160"/>
            <a:ext cx="34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‘artichaut, un légume très bre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876240" y="280044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s c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0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1938240" y="5133960"/>
            <a:ext cx="6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912760" y="1122480"/>
            <a:ext cx="307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erre de légen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6"/>
          <a:stretch/>
        </p:blipFill>
        <p:spPr>
          <a:xfrm>
            <a:off x="1441440" y="1938240"/>
            <a:ext cx="1487520" cy="193356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1321200" y="3986280"/>
            <a:ext cx="18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lin et Vivi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7"/>
          <a:stretch/>
        </p:blipFill>
        <p:spPr>
          <a:xfrm>
            <a:off x="1330200" y="4809960"/>
            <a:ext cx="1860840" cy="101448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1050840" y="5824440"/>
            <a:ext cx="26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thur et la Table Ro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638520" y="2033640"/>
            <a:ext cx="4640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rlin, l‘enchanteur, est un des compagnons du roi Arthur. Il est amoureux de la fée Viviane qui l‘enferme dans un cercle magiq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638520" y="4722840"/>
            <a:ext cx="53244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rthur, c‘est le roi de grande et petite Bretag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l possède l'épée Excalibur, fonde la Table Ronde et lance ses chevaliers dans l'aventure du Gra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171440" y="-12600"/>
            <a:ext cx="987480" cy="1127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784680" y="-12600"/>
            <a:ext cx="1647720" cy="11271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0" y="4635360"/>
            <a:ext cx="1171440" cy="8035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82480" y="1454040"/>
            <a:ext cx="2865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omm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091960" y="2257200"/>
            <a:ext cx="5041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ays et N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a Bretagne: villes et départ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Quelques faits histor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s mégalit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a langue breto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I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ymboles d‘ident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II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duits et spéciali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III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e terre de légen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0" y="3324240"/>
            <a:ext cx="1171440" cy="1311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8032680" y="2932200"/>
            <a:ext cx="1111320" cy="7538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5432400" y="533520"/>
            <a:ext cx="1701720" cy="5810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7"/>
          <a:stretch/>
        </p:blipFill>
        <p:spPr>
          <a:xfrm>
            <a:off x="2158920" y="-12600"/>
            <a:ext cx="1625760" cy="11271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8"/>
          <a:stretch/>
        </p:blipFill>
        <p:spPr>
          <a:xfrm>
            <a:off x="181080" y="4680"/>
            <a:ext cx="990360" cy="1015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9"/>
          <a:stretch/>
        </p:blipFill>
        <p:spPr>
          <a:xfrm>
            <a:off x="8129520" y="19080"/>
            <a:ext cx="881280" cy="10015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0"/>
          <a:stretch/>
        </p:blipFill>
        <p:spPr>
          <a:xfrm>
            <a:off x="0" y="1114560"/>
            <a:ext cx="1171440" cy="11048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1"/>
          <a:stretch/>
        </p:blipFill>
        <p:spPr>
          <a:xfrm>
            <a:off x="0" y="2219400"/>
            <a:ext cx="1171440" cy="11048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2"/>
          <a:stretch/>
        </p:blipFill>
        <p:spPr>
          <a:xfrm>
            <a:off x="8032680" y="3686040"/>
            <a:ext cx="1111320" cy="1386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3"/>
          <a:stretch/>
        </p:blipFill>
        <p:spPr>
          <a:xfrm>
            <a:off x="8032680" y="1123920"/>
            <a:ext cx="1128960" cy="11336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4"/>
          <a:stretch/>
        </p:blipFill>
        <p:spPr>
          <a:xfrm>
            <a:off x="8045280" y="2257560"/>
            <a:ext cx="1116360" cy="6746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5"/>
          <a:stretch/>
        </p:blipFill>
        <p:spPr>
          <a:xfrm>
            <a:off x="8045280" y="5072040"/>
            <a:ext cx="1098720" cy="1087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6"/>
          <a:stretch/>
        </p:blipFill>
        <p:spPr>
          <a:xfrm>
            <a:off x="0" y="5438880"/>
            <a:ext cx="1171440" cy="1419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7"/>
          <a:stretch/>
        </p:blipFill>
        <p:spPr>
          <a:xfrm>
            <a:off x="7134120" y="-12600"/>
            <a:ext cx="898560" cy="1143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8"/>
          <a:stretch/>
        </p:blipFill>
        <p:spPr>
          <a:xfrm>
            <a:off x="8045280" y="6159600"/>
            <a:ext cx="1098720" cy="7063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9"/>
          <a:stretch/>
        </p:blipFill>
        <p:spPr>
          <a:xfrm>
            <a:off x="5432400" y="-12600"/>
            <a:ext cx="1701720" cy="56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1938240" y="5133960"/>
            <a:ext cx="6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060000" y="1122480"/>
            <a:ext cx="27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erre de myt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0440" y="5999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54280" y="2239920"/>
            <a:ext cx="49881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s korrigans sont des lutins qui aiment jouer des mauvais tours aux gens. Ils habitent dans les bois ou dans les maréca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638520" y="4584600"/>
            <a:ext cx="36576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a tradition veut qu’il erre la nuit sur un chariot. Si on le rencontre, la mort est procha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6"/>
          <a:stretch/>
        </p:blipFill>
        <p:spPr>
          <a:xfrm>
            <a:off x="1706400" y="1922400"/>
            <a:ext cx="1203480" cy="137016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1755720" y="329256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 korri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7"/>
          <a:stretch/>
        </p:blipFill>
        <p:spPr>
          <a:xfrm>
            <a:off x="1638360" y="3952800"/>
            <a:ext cx="1447920" cy="208764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1819440" y="604044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‘ank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685800" y="809640"/>
            <a:ext cx="746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: http://www.ph-ludwigsburg.de/html/2b-frnz-s-01/overmann/baf4/bretagne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38240" y="5133960"/>
            <a:ext cx="6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60560" y="1905120"/>
            <a:ext cx="595620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05160" y="1125360"/>
            <a:ext cx="253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ays et N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6"/>
          <a:stretch/>
        </p:blipFill>
        <p:spPr>
          <a:xfrm>
            <a:off x="1549440" y="2068560"/>
            <a:ext cx="1396800" cy="12715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7"/>
          <a:stretch/>
        </p:blipFill>
        <p:spPr>
          <a:xfrm>
            <a:off x="3303720" y="2035080"/>
            <a:ext cx="1616040" cy="12715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8"/>
          <a:stretch/>
        </p:blipFill>
        <p:spPr>
          <a:xfrm>
            <a:off x="5222880" y="2068560"/>
            <a:ext cx="1650960" cy="12380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7243920" y="2068560"/>
            <a:ext cx="1346040" cy="12477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851040" y="3851280"/>
            <a:ext cx="8045280" cy="22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a Bretagne est une région qui se trouve dans le nord-ouest de la 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a capitale est Ren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s Celtes lui donnait le nom d’Armor (pays de la m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n 1532, la Bretagne (un duché à l‘époque) a été unie à la 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60560" y="1069920"/>
            <a:ext cx="484992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a Bretage et ses vi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938240" y="5133960"/>
            <a:ext cx="6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6"/>
          <a:stretch/>
        </p:blipFill>
        <p:spPr>
          <a:xfrm>
            <a:off x="1149480" y="2816280"/>
            <a:ext cx="4838400" cy="31798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810480" y="2110680"/>
            <a:ext cx="2290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res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ann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ant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Quimp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nn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aint Brieu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aint Mal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t Van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10480" y="1641600"/>
            <a:ext cx="1528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41440" y="2190600"/>
            <a:ext cx="361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s villes les plus connues son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938240" y="5133960"/>
            <a:ext cx="6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800440" y="5999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231920" y="2665440"/>
          <a:ext cx="4006800" cy="3482640"/>
        </p:xfrm>
        <a:graphic>
          <a:graphicData uri="http://schemas.openxmlformats.org/drawingml/2006/table">
            <a:tbl>
              <a:tblPr/>
              <a:tblGrid>
                <a:gridCol w="3574800"/>
                <a:gridCol w="216000"/>
                <a:gridCol w="216000"/>
              </a:tblGrid>
              <a:tr h="297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Les Côtes d'Armor (22)</a:t>
                      </a:r>
                      <a:br>
                        <a:rPr sz="1800"/>
                      </a:b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Le Finistère (29)</a:t>
                      </a:r>
                      <a:br>
                        <a:rPr sz="1800"/>
                      </a:b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L'Ille-et-Vilaine (35)</a:t>
                      </a:r>
                      <a:br>
                        <a:rPr sz="1800"/>
                      </a:b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Le Morbihan (5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La Loire-Atlantique (44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46" name="" descr=""/>
          <p:cNvPicPr/>
          <p:nvPr/>
        </p:nvPicPr>
        <p:blipFill>
          <a:blip r:embed="rId16"/>
          <a:stretch/>
        </p:blipFill>
        <p:spPr>
          <a:xfrm>
            <a:off x="1779480" y="4024440"/>
            <a:ext cx="9720" cy="475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7"/>
          <a:stretch/>
        </p:blipFill>
        <p:spPr>
          <a:xfrm>
            <a:off x="4255920" y="2905200"/>
            <a:ext cx="4335480" cy="32925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595520" y="13809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65080" y="1344600"/>
            <a:ext cx="484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es départements bre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231920" y="2239920"/>
            <a:ext cx="42688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a Bretagne est composée de cinq départements 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938240" y="5133960"/>
            <a:ext cx="6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60240" y="1914480"/>
            <a:ext cx="8483760" cy="19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‘antique Arm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 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es Celt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rivent dans la péninsule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Ils lu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onnent le nom d’Armor (pays de la me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César conquiert tout le pa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38240" y="1079280"/>
            <a:ext cx="44100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Quelques faits histor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60240" y="4172040"/>
            <a:ext cx="803916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’Armor devient la Bretag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es Celtes de Grande-Bretag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rivent dans le pays de la m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s lu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nnent son nouveau nom: Bretag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938240" y="5133960"/>
            <a:ext cx="6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-20520" y="2079720"/>
            <a:ext cx="9164520" cy="19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 duché de Bretag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84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minoé, duc de Bretagne, ouvre un dynastie ducal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5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rt du roi Alain Barbe-Torte. Période de désordre e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 misèr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sque vers la fin du 14e s. (Combat des Trentes)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38240" y="1223640"/>
            <a:ext cx="44100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Quelques faits histor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-20520" y="4378320"/>
            <a:ext cx="7619760" cy="22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ducs de Montfor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64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’est la période la plus éclatante de la Bretag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6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88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ne de Bretagne devient duches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938240" y="5133960"/>
            <a:ext cx="6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-20520" y="2022480"/>
            <a:ext cx="990756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éunion de la Bretagne à la Fra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3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Claude (fille d’Anne de Bretagne et Fr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is 1er, roi de France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cède la Bretagne à la couron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’est l’union de la Bretagne et de la Fr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troubles et révol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9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Des luttes religie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8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Révolution Fr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se: La Bretagne perd son autonom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14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La Bretagne dans la Première Guerre mond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1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38240" y="1049040"/>
            <a:ext cx="44100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Quelques faits histor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684360" cy="7812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1190520" cy="7858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0" y="5318280"/>
            <a:ext cx="765000" cy="5569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-20520" y="4406760"/>
            <a:ext cx="785520" cy="9399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5987880" y="0"/>
            <a:ext cx="2291040" cy="7779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6"/>
          <a:stretch/>
        </p:blipFill>
        <p:spPr>
          <a:xfrm>
            <a:off x="1441440" y="0"/>
            <a:ext cx="1006560" cy="7779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7"/>
          <a:stretch/>
        </p:blipFill>
        <p:spPr>
          <a:xfrm>
            <a:off x="52560" y="1908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8"/>
          <a:stretch/>
        </p:blipFill>
        <p:spPr>
          <a:xfrm>
            <a:off x="8339040" y="-20520"/>
            <a:ext cx="804960" cy="8064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9"/>
          <a:stretch/>
        </p:blipFill>
        <p:spPr>
          <a:xfrm>
            <a:off x="-20520" y="2905200"/>
            <a:ext cx="785520" cy="7412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10"/>
          <a:stretch/>
        </p:blipFill>
        <p:spPr>
          <a:xfrm>
            <a:off x="-20520" y="3646440"/>
            <a:ext cx="785520" cy="7603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11"/>
          <a:stretch/>
        </p:blipFill>
        <p:spPr>
          <a:xfrm>
            <a:off x="0" y="1641600"/>
            <a:ext cx="765000" cy="7682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12"/>
          <a:stretch/>
        </p:blipFill>
        <p:spPr>
          <a:xfrm>
            <a:off x="0" y="781200"/>
            <a:ext cx="757080" cy="8604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13"/>
          <a:stretch/>
        </p:blipFill>
        <p:spPr>
          <a:xfrm>
            <a:off x="0" y="5875200"/>
            <a:ext cx="765000" cy="9828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14"/>
          <a:stretch/>
        </p:blipFill>
        <p:spPr>
          <a:xfrm>
            <a:off x="0" y="2374920"/>
            <a:ext cx="765000" cy="5302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15"/>
          <a:stretch/>
        </p:blipFill>
        <p:spPr>
          <a:xfrm>
            <a:off x="3638520" y="0"/>
            <a:ext cx="2409840" cy="7779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938240" y="5133960"/>
            <a:ext cx="6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2225520"/>
            <a:ext cx="8820000" cy="43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Bretagne contemporai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44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Fin de l’occupation nazie en Bretag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4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Beaucoup de villes bretonnes détruites (Brest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5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La formation du Comité d’Études et de Liaison des Inté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Bretons (CELIB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pour améliorer l’économie de la Breta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69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Création du Parc naturel régional d’Armorique et de Briè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7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ctions de proteste par les 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urs et paysans bre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38240" y="1223640"/>
            <a:ext cx="44100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Quelques faits histor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7T21:10:59Z</dcterms:created>
  <dc:creator>Timo Gläss</dc:creator>
  <dc:description/>
  <dc:language>en-US</dc:language>
  <cp:lastModifiedBy>Anna Rabin</cp:lastModifiedBy>
  <dcterms:modified xsi:type="dcterms:W3CDTF">2010-02-24T19:28:41Z</dcterms:modified>
  <cp:revision>77</cp:revision>
  <dc:subject/>
  <dc:title>Folie 1</dc:title>
</cp:coreProperties>
</file>